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65D-DD31-4194-AFE1-342F4FDD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543-E93E-4C45-AF43-FF74F9E4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033-7990-490D-BBF2-078522AC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3E1-18CC-435C-AE48-1E35FEB4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93F-CE6F-46F0-9CD6-DDF750C5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FC5-507F-4403-BCE9-5B78B02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60D-97EA-4D5E-AFB1-EE744377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A826-5104-4E8F-BA57-92EBD2E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5B5-CB31-4CCC-BA1C-8DBAA65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8DA-0F69-4260-BD14-A4255EFA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BC57-5CBA-499A-9658-E815A73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6A7-9286-45BC-8D4A-429BB7DE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C662-8FD0-4964-8100-32C05DB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04EF-7025-4E7E-B5CA-99631FE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A3C6-40A2-43FB-9DA5-5CBF7B7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453-811A-42D4-AB55-CC7EA636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7894-699B-4846-B5BD-8EC46B44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647-893A-47AA-8A8E-59E5FD1A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42A-2235-4BE3-94A0-5321C070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489-EE91-410C-92C1-590EB9C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C47-0487-4EC5-9092-E87B784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482-D18A-43D2-A9C4-6C439AE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A59-3DD8-457C-B821-DC766C8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AD0-42F3-47C7-862F-158B37F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100000">
              <a:srgbClr val="a8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694-8072-4B45-8293-1910D4FC4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100000">
              <a:srgbClr val="a8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127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87BB-5E5E-49F7-AEEF-B85FF3625C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Butler and Oberly</a:t>
            </a:r>
            <a:br>
              <a:rPr sz="5100"/>
            </a:b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News cast 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EST NEWS CAS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SP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aimyo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5" descr="ANd9GcTpTxC8XvL7F9Suv-BL-l6_8GaHt3AkA5NKsybCkrbgzCJZrFuBsA"/>
          <p:cNvPicPr/>
          <p:nvPr/>
        </p:nvPicPr>
        <p:blipFill>
          <a:blip r:embed="rId1"/>
          <a:stretch/>
        </p:blipFill>
        <p:spPr>
          <a:xfrm>
            <a:off x="2362320" y="838080"/>
            <a:ext cx="4495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amura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77760" y="46080"/>
            <a:ext cx="11145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7" descr="ANd9GcQ-PJGxCmVOm3s-n3PMP-NWb2HyG2vbrNsBQrgFdy57gUdgNXcu3Q"/>
          <p:cNvPicPr/>
          <p:nvPr/>
        </p:nvPicPr>
        <p:blipFill>
          <a:blip r:embed="rId1"/>
          <a:stretch/>
        </p:blipFill>
        <p:spPr>
          <a:xfrm>
            <a:off x="2133720" y="1219320"/>
            <a:ext cx="443844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apan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Picture 5" descr="Japan map."/>
          <p:cNvPicPr/>
          <p:nvPr/>
        </p:nvPicPr>
        <p:blipFill>
          <a:blip r:embed="rId1"/>
          <a:stretch/>
        </p:blipFill>
        <p:spPr>
          <a:xfrm>
            <a:off x="1295280" y="1066680"/>
            <a:ext cx="580896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panese Rising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5" descr="ANd9GcRGAXbHjnyrN8CcHByXk_yiZBPVN3RJmr_cscew-570GcHbpmxS0g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5027760"/>
          </a:xfrm>
          <a:prstGeom prst="rect">
            <a:avLst/>
          </a:prstGeom>
          <a:ln w="0">
            <a:noFill/>
          </a:ln>
        </p:spPr>
      </p:pic>
      <p:pic>
        <p:nvPicPr>
          <p:cNvPr id="346" name="MS910219243[1].wav" descr=""/>
          <p:cNvPicPr/>
          <p:nvPr/>
        </p:nvPicPr>
        <p:blipFill>
          <a:blip r:embed="rId2"/>
          <a:stretch/>
        </p:blipFill>
        <p:spPr>
          <a:xfrm>
            <a:off x="80773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shogunart.com/updates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japaneselifestyle.com.au/culture/samurai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wordtravels.com/Travelguide/Countries/Japan/M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dailygalaxy.com/my_weblog/2007/10/a-new-tsuki-for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27:38Z</dcterms:created>
  <dc:creator>bbutka</dc:creator>
  <dc:description/>
  <dc:language>en-US</dc:language>
  <cp:lastModifiedBy>Owner</cp:lastModifiedBy>
  <dcterms:modified xsi:type="dcterms:W3CDTF">2011-05-23T13:59:58Z</dcterms:modified>
  <cp:revision>5</cp:revision>
  <dc:subject/>
  <dc:title>Butler and Oberly News cast </dc:title>
</cp:coreProperties>
</file>